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9440" y="190080"/>
            <a:ext cx="820764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15231CB-919D-4AE6-97AC-28D170B53904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bg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69440" y="190080"/>
            <a:ext cx="820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ndex-1_39"/>
          <p:cNvPicPr/>
          <p:nvPr/>
        </p:nvPicPr>
        <p:blipFill>
          <a:blip r:embed="rId1"/>
          <a:stretch/>
        </p:blipFill>
        <p:spPr>
          <a:xfrm>
            <a:off x="971640" y="2060640"/>
            <a:ext cx="2584440" cy="2214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64000" y="1988640"/>
            <a:ext cx="540072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深圳维示泰克技术有限公司，由留德博士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月份创立，是国内首家专业从事于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机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教学仪器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耗材、三维成型产品的设计、开发、生产、销售的高科技企业。我司拥有一批来自全国各地的行业内的顶尖人才，生产的产品具有独立的知识产权。是国内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机领域内的领头企业。同时，在湖北我们还拥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亩专业的耗材生产基地。我司拥有一支年轻的、富有创造力的高学历研发团队；优越的办公环境和庞大生产基地，加上丰富的生产经验和专业的技术指导，保证了我们可靠的产品质量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作为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领域内的领导性企业，深圳维示泰克技术有限公司在自我发展的同时，非常注重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产业的文化发展。我们不但提供零配件和技术指导，帮助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爱好者组装自己的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机，还专门成立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图库。我公司已逐渐成为个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打印爱好者值得信赖的分享平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196400" cy="647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3960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型号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1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平台：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技术原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熔融挤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材料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 or 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重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格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层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-0.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照片 215_副本"/>
          <p:cNvPicPr/>
          <p:nvPr/>
        </p:nvPicPr>
        <p:blipFill>
          <a:blip r:embed="rId1"/>
          <a:stretch/>
        </p:blipFill>
        <p:spPr>
          <a:xfrm>
            <a:off x="5003640" y="1486080"/>
            <a:ext cx="3456000" cy="4349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900000" y="40464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6560" y="1557000"/>
            <a:ext cx="40291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型号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平台：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*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技术原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F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熔融挤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材料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 or 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重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8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格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型层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-0.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照片 254_副本"/>
          <p:cNvPicPr/>
          <p:nvPr/>
        </p:nvPicPr>
        <p:blipFill>
          <a:blip r:embed="rId1"/>
          <a:stretch/>
        </p:blipFill>
        <p:spPr>
          <a:xfrm>
            <a:off x="4788000" y="1917720"/>
            <a:ext cx="3324240" cy="4086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900000" y="40464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396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型号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成型平台：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技术原理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（熔融挤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成型材料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 or 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设备重量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输入格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成型层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2-0.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照片 308_副本"/>
          <p:cNvPicPr/>
          <p:nvPr/>
        </p:nvPicPr>
        <p:blipFill>
          <a:blip r:embed="rId1"/>
          <a:stretch/>
        </p:blipFill>
        <p:spPr>
          <a:xfrm>
            <a:off x="5076720" y="1773360"/>
            <a:ext cx="297684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900000" y="40464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产品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4920" y="2708280"/>
            <a:ext cx="43210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KG   1.75mm/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KG   1.75mm/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黑、白、蓝、红、绿、黄、本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黑、白、蓝、红、绿、橙、夜光、橄榄绿、透明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2_副本"/>
          <p:cNvPicPr/>
          <p:nvPr/>
        </p:nvPicPr>
        <p:blipFill>
          <a:blip r:embed="rId1"/>
          <a:stretch/>
        </p:blipFill>
        <p:spPr>
          <a:xfrm>
            <a:off x="5003640" y="2421000"/>
            <a:ext cx="3503880" cy="26305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00000" y="907920"/>
            <a:ext cx="684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ff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Microsoft YaHei"/>
              </a:rPr>
              <a:t>耗材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765440" y="6094440"/>
            <a:ext cx="56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维示泰克_副本"/>
          <p:cNvPicPr/>
          <p:nvPr/>
        </p:nvPicPr>
        <p:blipFill>
          <a:blip r:embed="rId1"/>
          <a:stretch/>
        </p:blipFill>
        <p:spPr>
          <a:xfrm>
            <a:off x="3135240" y="1125360"/>
            <a:ext cx="5542200" cy="299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照片 010"/>
          <p:cNvPicPr/>
          <p:nvPr/>
        </p:nvPicPr>
        <p:blipFill>
          <a:blip r:embed="rId2"/>
          <a:stretch/>
        </p:blipFill>
        <p:spPr>
          <a:xfrm>
            <a:off x="108000" y="1125360"/>
            <a:ext cx="2736720" cy="2054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照片 016"/>
          <p:cNvPicPr/>
          <p:nvPr/>
        </p:nvPicPr>
        <p:blipFill>
          <a:blip r:embed="rId3"/>
          <a:stretch/>
        </p:blipFill>
        <p:spPr>
          <a:xfrm>
            <a:off x="5940360" y="4221000"/>
            <a:ext cx="2784600" cy="208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照片 025_副本_副本"/>
          <p:cNvPicPr/>
          <p:nvPr/>
        </p:nvPicPr>
        <p:blipFill>
          <a:blip r:embed="rId4"/>
          <a:stretch/>
        </p:blipFill>
        <p:spPr>
          <a:xfrm>
            <a:off x="3060720" y="4221000"/>
            <a:ext cx="2716200" cy="20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典型结构件_副本"/>
          <p:cNvPicPr/>
          <p:nvPr/>
        </p:nvPicPr>
        <p:blipFill>
          <a:blip r:embed="rId5"/>
          <a:stretch/>
        </p:blipFill>
        <p:spPr>
          <a:xfrm>
            <a:off x="108000" y="3357720"/>
            <a:ext cx="2752560" cy="2952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971640" y="333360"/>
            <a:ext cx="684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zh-CN" sz="4000" spc="-1" strike="noStrike">
                <a:solidFill>
                  <a:srgbClr val="0099ff"/>
                </a:solidFill>
                <a:latin typeface="Arial Black"/>
                <a:ea typeface="NSimSun"/>
              </a:rPr>
              <a:t>展品演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1917360"/>
            <a:ext cx="8496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9900"/>
                </a:solidFill>
                <a:latin typeface="Arial"/>
              </a:rPr>
              <a:t>我司生产的三维打印机、耗材价格实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9900"/>
                </a:solidFill>
                <a:latin typeface="Arial"/>
              </a:rPr>
              <a:t>是手板制作、模型设计、研发打样……的首选仪器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9900"/>
                </a:solidFill>
                <a:latin typeface="Arial"/>
              </a:rPr>
              <a:t>欢迎前来咨询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16000" y="2133720"/>
            <a:ext cx="599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8234280" cy="985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1763640" y="5950080"/>
            <a:ext cx="561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公司网址：</a:t>
            </a:r>
            <a:r>
              <a:rPr b="1" lang="zh-CN" sz="1800" spc="-1" strike="noStrike">
                <a:solidFill>
                  <a:srgbClr val="0099ff"/>
                </a:solidFill>
                <a:latin typeface="Arial Black"/>
                <a:ea typeface="NSimSun"/>
              </a:rPr>
              <a:t>www.weistek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6:38:29Z</dcterms:created>
  <dc:creator>Administrator</dc:creator>
  <dc:description/>
  <dc:language>en-US</dc:language>
  <cp:lastModifiedBy>Mitch Altman</cp:lastModifiedBy>
  <cp:lastPrinted>1899-12-30T00:00:00Z</cp:lastPrinted>
  <dcterms:modified xsi:type="dcterms:W3CDTF">2012-04-23T09:24:07Z</dcterms:modified>
  <cp:revision>1</cp:revision>
  <dc:subject/>
  <dc:title>       深圳维示泰克技术有限公司，由留德博士于2011年5月份创立，是国内首家专业从事于个人3D打印机、3D教学仪器、3D打印耗材、三维成型产品的设计、开发、生产、销售的高科技企业。我司拥有一批来自全国各地的行业内的顶尖人才，生产的产品具有独立的知识产权。是国内个人3D打印机领域内的领头企业。同时，在湖北我们还拥有550亩专业的耗材生产基地。我司拥有一支年轻的、富有创造力的高学历研发团队；优越的办公环境和庞大生产基地，加上丰富的生产经验和专业的技术指导，保证了我们可靠的产品质量。        作为个人3D打印领域内的领导性企业，深圳维示泰克技术有限公司在自我发展的同时，非常注重个人3D打印产业的文化发展。我们不但提供零配件和技术指导，帮助个人3D打印爱好者组装自己的个人3D打印机，还专门成立了3D打印图库。我公司已逐渐成为个人3D打印爱好者值得信赖的分享平台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